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13003213" cy="97520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ED1-5884-4DB4-A897-31C50B02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7BA-4E02-4686-BF2F-1F11997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61B-8D50-4A5E-8157-5B8BDD30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1F1-9055-415C-A3BF-0A50A03C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DFFF-0FCD-4229-92AA-9D2378AD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095A-CAED-4527-A879-9CC0126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4AEE-AFF2-4B2C-B7AC-04DE1BF3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EC40-2BA9-4726-8873-3004143C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CEFF-57D1-46E6-AE06-AC01170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C446-B659-4009-B21C-D3630F26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0A51-8015-442B-A977-EB632F1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84E-5C08-46CE-99CD-3F8F0AE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27B9-F4B3-49F5-8A0A-E3EB223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AD21-C483-4EC9-A606-D8D3B3FD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6BA-615F-4082-A6DB-4AD7B9B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C9A3-0563-4796-9C32-CA160413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4584-E5F5-4C10-AFA0-5B6B7A2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520B1-285F-4D2D-A73A-6BDBF623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1220-8043-4839-81C7-FE5536C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164E-C70B-4868-BDBC-D431F16D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BA00-F04A-4442-8530-58337545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AF1B-9458-4179-B00F-0584A93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3A1-8F62-43D3-AD3B-990479E2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EF302-3828-4D7A-9343-F68566E3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82C3-81E8-49F8-BCC0-5A7F5A6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14FE-7FA4-42D2-901B-9636E7A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10EA-13E3-47C6-B990-FCCD452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FD1A-4FE5-4B84-94BF-AE4C362A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52B5-21CA-4426-9BFA-66C713BB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0DB3-4166-4024-B5B0-86614458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4EA7-2D16-484C-A54A-0BF5E8C7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E612-B9D0-467A-A6C9-4692A366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1FDB-29C4-487D-AF9A-B679C30A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E87-A1F4-4DAC-A360-CB1CD4F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507D-65DB-4451-8FE1-129B97B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0C0B-FD58-4D0E-90BF-C79F91D4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DB08-1403-42D5-A33B-998F535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DEEC-C506-4429-8CD1-54450F2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B2CF-BB04-42DD-B514-C7A79EB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623F-D991-46C4-B2F8-621D789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C367-8037-4E44-95F2-9C3AE72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A547-282B-4F21-956A-1A59E72D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2FF7-B328-406B-84D3-D1F4C6D6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4DF1-3346-494F-939E-81C5939B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18B-F124-4FC3-A837-F68F6CB8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C498-E490-4FB4-9779-17F03D3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EFF2-F444-42BD-ACF0-46F7071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5517-AA76-4825-ADB2-235FC789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8BDD-7991-4F41-9FF6-7E770C2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71DC-FE9C-46C9-B150-47E4597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5E36-5355-4F22-A1E0-5973535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4EF4-8C36-4573-B7EE-A0B5901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3ECF-290B-4C18-B319-D532661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1B0D-2E58-464A-9C55-C9C8E4E5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DC05-53BC-41BC-9201-945CEC2D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285-5563-4A0C-9F8A-97956C17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DBCB-6B6F-48A1-AE18-70C628C8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882-5531-46EB-A849-26D68A4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D4D-D98F-4055-8D52-A1A95FF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403-8A4B-4B33-9205-EE59C85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201AA3-8916-4602-A862-36E70E054790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13004640" cy="650232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6480" y="0"/>
            <a:ext cx="12998160" cy="650232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Straight Connector 9"/>
          <p:cNvSpPr/>
          <p:nvPr/>
        </p:nvSpPr>
        <p:spPr>
          <a:xfrm flipV="1">
            <a:off x="8945640" y="7486560"/>
            <a:ext cx="0" cy="130032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F10FB9-C604-4CB8-8EB2-7D5AEB00477E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13004640" cy="650232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6480" y="0"/>
            <a:ext cx="12998160" cy="650232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Straight Connector 9"/>
          <p:cNvSpPr/>
          <p:nvPr/>
        </p:nvSpPr>
        <p:spPr>
          <a:xfrm flipV="1">
            <a:off x="8945640" y="7486560"/>
            <a:ext cx="0" cy="130032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487C69-062D-4A12-83AB-1A5BFA9EB897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Straight Connector 7"/>
          <p:cNvSpPr/>
          <p:nvPr/>
        </p:nvSpPr>
        <p:spPr>
          <a:xfrm flipV="1">
            <a:off x="8945640" y="748656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A42590-D811-44A3-A962-DFEAFE2EE497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10240920" y="735120"/>
            <a:ext cx="97632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E37EB8-83DC-4B4E-B854-0254402F9ABC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320" y="831960"/>
            <a:ext cx="9853560" cy="1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5600" spc="-1" strike="noStrike">
                <a:solidFill>
                  <a:srgbClr val="0d0d0d"/>
                </a:solidFill>
                <a:latin typeface="Tw Cen MT Condensed"/>
              </a:rPr>
              <a:t>                                    </a:t>
            </a:r>
            <a:r>
              <a:rPr b="0" lang="en-IE" sz="5600" spc="-1" strike="noStrike">
                <a:solidFill>
                  <a:srgbClr val="0d0d0d"/>
                </a:solidFill>
                <a:latin typeface="Tw Cen MT Condensed"/>
              </a:rPr>
              <a:t>RATES EXAMPLE:</a:t>
            </a:r>
            <a:endParaRPr b="0" lang="en-US" sz="56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8320" y="831960"/>
            <a:ext cx="10142640" cy="769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3600" spc="-1" strike="noStrike" u="sng">
                <a:solidFill>
                  <a:srgbClr val="000000"/>
                </a:solidFill>
                <a:uFillTx/>
                <a:latin typeface="Tw Cen MT"/>
              </a:rPr>
              <a:t>Students Stud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Tw Cen MT"/>
              </a:rPr>
              <a:t>Group 1 Countries = €250 per mon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w Cen MT"/>
              </a:rPr>
              <a:t>includes France and Aust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Tw Cen MT"/>
              </a:rPr>
              <a:t>Group 2 Countries = €200 per mon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w Cen MT"/>
              </a:rPr>
              <a:t>Includes Spain, Germany and Netherlan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w Cen MT"/>
              </a:rPr>
              <a:t>e.g., of Student payment - 3 months in F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Kép 1" descr=""/>
          <p:cNvPicPr/>
          <p:nvPr/>
        </p:nvPicPr>
        <p:blipFill>
          <a:blip r:embed="rId1"/>
          <a:stretch/>
        </p:blipFill>
        <p:spPr>
          <a:xfrm>
            <a:off x="10914120" y="195120"/>
            <a:ext cx="1905120" cy="6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6789600" y="1996920"/>
          <a:ext cx="5524560" cy="4851720"/>
        </p:xfrm>
        <a:graphic>
          <a:graphicData uri="http://schemas.openxmlformats.org/drawingml/2006/table">
            <a:tbl>
              <a:tblPr/>
              <a:tblGrid>
                <a:gridCol w="3302280"/>
                <a:gridCol w="1041120"/>
                <a:gridCol w="1181160"/>
              </a:tblGrid>
              <a:tr h="61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rasmus+ HE SM grant calcul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asic Monthly gran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0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p-up for traineeshi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p-up for disadvantaged background (SMS only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pecial needs suppo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bil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rt dat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7/01/20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d da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7/04/20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umber of interruption 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monthly grant for SM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0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monthly grant for SM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granted day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duration in month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onth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duration in remaining day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grant (SMS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58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grant (SM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pic>
        <p:nvPicPr>
          <p:cNvPr id="222" name="Kép 1" descr=""/>
          <p:cNvPicPr/>
          <p:nvPr/>
        </p:nvPicPr>
        <p:blipFill>
          <a:blip r:embed="rId2"/>
          <a:stretch/>
        </p:blipFill>
        <p:spPr>
          <a:xfrm>
            <a:off x="7961400" y="2025720"/>
            <a:ext cx="172404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ileen O'Connell</dc:creator>
  <dc:description/>
  <dc:language>en-US</dc:language>
  <cp:lastModifiedBy>Canning, Fiona</cp:lastModifiedBy>
  <cp:lastPrinted>2014-05-08T15:54:14Z</cp:lastPrinted>
  <dcterms:modified xsi:type="dcterms:W3CDTF">2014-12-05T12:34:40Z</dcterms:modified>
  <cp:revision>66</cp:revision>
  <dc:subject/>
  <dc:title>PowerPoint Presentation</dc:title>
</cp:coreProperties>
</file>