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13003213" cy="9752013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F401-EE80-4B22-9B4C-A964422B3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1036800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92240" y="6239160"/>
            <a:ext cx="1036800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35D3-FA86-4EB2-829E-07271D0C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405120" y="325080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92240" y="623916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405120" y="623916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4AC4-9C0A-4425-8523-4A26997B1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333828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7920" y="3250800"/>
            <a:ext cx="333828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103240" y="3250800"/>
            <a:ext cx="333828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92240" y="6239160"/>
            <a:ext cx="333828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97920" y="6239160"/>
            <a:ext cx="333828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103240" y="6239160"/>
            <a:ext cx="333828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4F95-6CE2-49D4-8E64-CC81DC762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DB69-2D7F-4A20-983A-647841DE6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92240" y="3250800"/>
            <a:ext cx="10368000" cy="572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F95F-28AD-4D24-B27C-9F481E56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10368000" cy="572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1108-5F9C-4EEF-B1CE-0D4235B5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5059440" cy="572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405120" y="3250800"/>
            <a:ext cx="5059440" cy="572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F000-240B-48C0-A0F0-D8470FFB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D9E0-BC71-4675-B336-5FCD5301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92240" y="831960"/>
            <a:ext cx="10368000" cy="9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25078-F36E-4CC6-AB31-4DDA54F1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405120" y="3250800"/>
            <a:ext cx="5059440" cy="572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92240" y="623916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CD3A-D6D7-4A1F-B9BB-FB1B4671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92240" y="3250800"/>
            <a:ext cx="10368000" cy="572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1B5D-0380-4EE5-BE09-638EF6E0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5059440" cy="572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405120" y="325080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405120" y="623916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9828-6D5D-40C5-9F7F-A98121FD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405120" y="325080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92240" y="6239160"/>
            <a:ext cx="1036800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B1B3-D335-4A80-BE54-277CDCBE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1036800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92240" y="6239160"/>
            <a:ext cx="1036800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779A-D5D3-41F1-B75B-F0499D88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405120" y="325080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2240" y="623916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405120" y="623916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51E3-D495-484C-9E2B-DE7B0730D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333828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97920" y="3250800"/>
            <a:ext cx="333828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103240" y="3250800"/>
            <a:ext cx="333828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92240" y="6239160"/>
            <a:ext cx="333828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597920" y="6239160"/>
            <a:ext cx="333828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8103240" y="6239160"/>
            <a:ext cx="333828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B265-ED43-4F26-A1C6-2CFBE7E81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4EAB4-1775-45DF-A612-C8ACD5BA5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92240" y="3250800"/>
            <a:ext cx="10368000" cy="572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F85EF-1CAD-4B20-8951-8EEEC7D7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10368000" cy="572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D7060-DF67-48B6-9F64-07B4EF27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5059440" cy="572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405120" y="3250800"/>
            <a:ext cx="5059440" cy="572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58029-123D-4213-9219-E21FD44F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B656F-9F79-4034-8E5A-6B6F1B8E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10368000" cy="572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A80D-AA4C-41C9-92C2-4B80BDD9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092240" y="831960"/>
            <a:ext cx="10368000" cy="9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22D94-F518-4E2F-AD68-46E1F987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405120" y="3250800"/>
            <a:ext cx="5059440" cy="572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92240" y="623916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BC247-C2F4-494C-98C3-D0C9C4CA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5059440" cy="572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405120" y="325080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405120" y="623916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4A0F3-7D9C-43C8-B104-BE934A6B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405120" y="325080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92240" y="6239160"/>
            <a:ext cx="1036800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1D632-40D9-4F3B-BE4E-02041FCF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1036800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092240" y="6239160"/>
            <a:ext cx="1036800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253B3-E53D-4EFF-BF9E-79DC9C05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405120" y="325080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092240" y="623916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405120" y="623916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255BB-702D-4145-B924-E7D0D3401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333828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97920" y="3250800"/>
            <a:ext cx="333828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103240" y="3250800"/>
            <a:ext cx="333828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092240" y="6239160"/>
            <a:ext cx="333828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597920" y="6239160"/>
            <a:ext cx="333828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103240" y="6239160"/>
            <a:ext cx="333828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8849D-7AB6-4834-BD43-EE85871E3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4E110-85AE-4C59-9380-9E8A01C87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092240" y="3250800"/>
            <a:ext cx="10368000" cy="572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57A66-62F3-4F57-B220-4467AF1D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10368000" cy="572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E841F-A3F6-411E-AF8A-063C780C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5059440" cy="572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405120" y="3250800"/>
            <a:ext cx="5059440" cy="572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0593-3AC1-48CA-978F-9520DD9A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5059440" cy="572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405120" y="3250800"/>
            <a:ext cx="5059440" cy="572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6F435-5E73-44C3-BDFA-121ED902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7D6A1-B2B6-460D-9F6D-B5938280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092240" y="831960"/>
            <a:ext cx="10368000" cy="9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452AB-961D-40F3-A1EE-4D1ED1ED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405120" y="3250800"/>
            <a:ext cx="5059440" cy="572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92240" y="623916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07C89-3885-4D57-82B3-4BC6ACA7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5059440" cy="572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405120" y="325080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405120" y="623916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922F1-FCF2-448B-B647-FB5D02AB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405120" y="325080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092240" y="6239160"/>
            <a:ext cx="1036800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C9AEA-0954-4DC2-8D26-B4C8D08A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1036800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092240" y="6239160"/>
            <a:ext cx="1036800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7F681-D531-42C7-B305-60BBF8F9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405120" y="325080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092240" y="623916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405120" y="623916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92215-3EFD-4EA8-BEBB-1154F5182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333828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97920" y="3250800"/>
            <a:ext cx="333828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103240" y="3250800"/>
            <a:ext cx="333828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092240" y="6239160"/>
            <a:ext cx="333828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597920" y="6239160"/>
            <a:ext cx="333828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8103240" y="6239160"/>
            <a:ext cx="333828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58721-18AB-4515-9D57-FF503BFB7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01582-A886-432C-B200-078312504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B76E-4571-4FBD-991A-BB8B95A7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092240" y="3250800"/>
            <a:ext cx="10368000" cy="572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95C94-1335-4D23-B06F-3965CC5E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10368000" cy="572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E0BF5-48EA-4C50-B7AD-8455A4AB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5059440" cy="572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405120" y="3250800"/>
            <a:ext cx="5059440" cy="572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85161-979D-475B-967B-5DB30217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15243-050F-43FC-ABF5-52E63AE9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092240" y="831960"/>
            <a:ext cx="10368000" cy="9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44DB8-6785-44C8-B2B9-AACCBDB6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405120" y="3250800"/>
            <a:ext cx="5059440" cy="572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092240" y="623916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56A6B-8B55-44B4-8BEE-3F108744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5059440" cy="572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405120" y="325080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405120" y="623916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4A70F-CC38-47E4-95D7-85E0F47A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405120" y="325080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092240" y="6239160"/>
            <a:ext cx="1036800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0AFC1-C9D1-43F9-BF7C-ED19F00D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1036800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092240" y="6239160"/>
            <a:ext cx="1036800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268CE-D3CA-4CB2-82B4-46FA2A09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405120" y="325080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092240" y="623916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405120" y="623916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648F8-125C-4F52-BC50-1D561A05C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92240" y="831960"/>
            <a:ext cx="10368000" cy="9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DF51-5642-47A4-BFE7-222F33E5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333828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97920" y="3250800"/>
            <a:ext cx="333828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8103240" y="3250800"/>
            <a:ext cx="333828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1092240" y="6239160"/>
            <a:ext cx="333828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597920" y="6239160"/>
            <a:ext cx="333828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8103240" y="6239160"/>
            <a:ext cx="333828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EE451-A4A3-468C-BFA8-FA9FFAFF6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405120" y="3250800"/>
            <a:ext cx="5059440" cy="572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92240" y="623916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2E9F-9711-48AD-B5C7-BA1869FA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5059440" cy="572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405120" y="325080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405120" y="623916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707D-4914-4B60-A009-BBEC788A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92240" y="325080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405120" y="3250800"/>
            <a:ext cx="505944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92240" y="6239160"/>
            <a:ext cx="10368000" cy="27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352E-9486-434C-91E4-876E38AB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2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92240" y="3250800"/>
            <a:ext cx="10368000" cy="572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28520" indent="-12852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1cade4"/>
              </a:buClr>
              <a:buFont typeface="Tw Cen MT"/>
              <a:buChar char=" 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376200" indent="-19368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636480" indent="-19368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3" marL="844560" indent="-19368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4" marL="1104840" indent="-19368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5" marL="1104840" indent="-19368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6" marL="1104840" indent="-19368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91880" y="9202320"/>
            <a:ext cx="229860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4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4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165280" y="9202320"/>
            <a:ext cx="629460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560320" y="9202320"/>
            <a:ext cx="103824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4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66B607E-4318-4199-A88D-A211ED6DCD14}" type="slidenum">
              <a:rPr b="0" lang="en-US" sz="14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812880" y="1174680"/>
            <a:ext cx="0" cy="130032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traight Connector 6"/>
          <p:cNvSpPr/>
          <p:nvPr/>
        </p:nvSpPr>
        <p:spPr>
          <a:xfrm flipV="1">
            <a:off x="812880" y="1174680"/>
            <a:ext cx="0" cy="130032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0"/>
            <a:ext cx="13004640" cy="6502320"/>
          </a:xfrm>
          <a:prstGeom prst="rect">
            <a:avLst/>
          </a:prstGeom>
          <a:solidFill>
            <a:srgbClr val="148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" name="Freeform 8"/>
          <p:cNvSpPr/>
          <p:nvPr/>
        </p:nvSpPr>
        <p:spPr>
          <a:xfrm>
            <a:off x="6480" y="0"/>
            <a:ext cx="12998160" cy="650232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Straight Connector 9"/>
          <p:cNvSpPr/>
          <p:nvPr/>
        </p:nvSpPr>
        <p:spPr>
          <a:xfrm flipV="1">
            <a:off x="8945640" y="7486560"/>
            <a:ext cx="0" cy="130032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2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092240" y="3250800"/>
            <a:ext cx="10368000" cy="572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28520" indent="-12852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1cade4"/>
              </a:buClr>
              <a:buFont typeface="Tw Cen MT"/>
              <a:buChar char=" 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376200" indent="-19368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636480" indent="-19368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3" marL="844560" indent="-19368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4" marL="1104840" indent="-19368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5" marL="1104840" indent="-19368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6" marL="1104840" indent="-19368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091880" y="9202320"/>
            <a:ext cx="229860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4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4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165280" y="9202320"/>
            <a:ext cx="629460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11560320" y="9202320"/>
            <a:ext cx="103824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4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855B85F-1218-47CA-938B-AB6CEA0EA4C4}" type="slidenum">
              <a:rPr b="0" lang="en-US" sz="14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traight Connector 6"/>
          <p:cNvSpPr/>
          <p:nvPr/>
        </p:nvSpPr>
        <p:spPr>
          <a:xfrm flipV="1">
            <a:off x="812880" y="1174680"/>
            <a:ext cx="0" cy="130032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0" y="0"/>
            <a:ext cx="13004640" cy="6502320"/>
          </a:xfrm>
          <a:prstGeom prst="rect">
            <a:avLst/>
          </a:prstGeom>
          <a:solidFill>
            <a:srgbClr val="1d9b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Freeform 8"/>
          <p:cNvSpPr/>
          <p:nvPr/>
        </p:nvSpPr>
        <p:spPr>
          <a:xfrm>
            <a:off x="6480" y="0"/>
            <a:ext cx="12998160" cy="650232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" name="Straight Connector 9"/>
          <p:cNvSpPr/>
          <p:nvPr/>
        </p:nvSpPr>
        <p:spPr>
          <a:xfrm flipV="1">
            <a:off x="8945640" y="7486560"/>
            <a:ext cx="0" cy="130032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2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092240" y="3250800"/>
            <a:ext cx="10368000" cy="572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28520" indent="-12852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1cade4"/>
              </a:buClr>
              <a:buFont typeface="Tw Cen MT"/>
              <a:buChar char=" 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376200" indent="-19368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636480" indent="-19368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3" marL="844560" indent="-19368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4" marL="1104840" indent="-19368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5" marL="1104840" indent="-19368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6" marL="1104840" indent="-19368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1091880" y="9202320"/>
            <a:ext cx="229860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4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4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5165280" y="9202320"/>
            <a:ext cx="629460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1560320" y="9202320"/>
            <a:ext cx="103824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4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31732E7-A429-40AF-9DB0-BC4AD78269EE}" type="slidenum">
              <a:rPr b="0" lang="en-US" sz="14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6"/>
          <p:cNvSpPr/>
          <p:nvPr/>
        </p:nvSpPr>
        <p:spPr>
          <a:xfrm flipV="1">
            <a:off x="812880" y="1174680"/>
            <a:ext cx="0" cy="130032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Straight Connector 7"/>
          <p:cNvSpPr/>
          <p:nvPr/>
        </p:nvSpPr>
        <p:spPr>
          <a:xfrm flipV="1">
            <a:off x="8945640" y="7486560"/>
            <a:ext cx="0" cy="130032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2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092240" y="3250800"/>
            <a:ext cx="10368000" cy="572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28520" indent="-12852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1cade4"/>
              </a:buClr>
              <a:buFont typeface="Tw Cen MT"/>
              <a:buChar char=" 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376200" indent="-19368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636480" indent="-19368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3" marL="844560" indent="-19368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4" marL="1104840" indent="-19368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5" marL="1104840" indent="-19368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6" marL="1104840" indent="-19368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091880" y="9202320"/>
            <a:ext cx="229860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4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4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5165280" y="9202320"/>
            <a:ext cx="629460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11560320" y="9202320"/>
            <a:ext cx="103824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4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99037CF-226B-4454-A0A6-65CC0B5D395D}" type="slidenum">
              <a:rPr b="0" lang="en-US" sz="14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traight Connector 6"/>
          <p:cNvSpPr/>
          <p:nvPr/>
        </p:nvSpPr>
        <p:spPr>
          <a:xfrm flipV="1">
            <a:off x="812880" y="1174680"/>
            <a:ext cx="0" cy="130032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Straight Connector 7"/>
          <p:cNvSpPr/>
          <p:nvPr/>
        </p:nvSpPr>
        <p:spPr>
          <a:xfrm>
            <a:off x="10240920" y="735120"/>
            <a:ext cx="976320" cy="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92240" y="831960"/>
            <a:ext cx="10368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2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6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092240" y="3250800"/>
            <a:ext cx="10368000" cy="572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28520" indent="-12852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1cade4"/>
              </a:buClr>
              <a:buFont typeface="Tw Cen MT"/>
              <a:buChar char=" 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376200" indent="-19368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636480" indent="-19368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3" marL="844560" indent="-19368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4" marL="1104840" indent="-19368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5" marL="1104840" indent="-19368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6" marL="1104840" indent="-193680"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1091880" y="9202320"/>
            <a:ext cx="229860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4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4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5165280" y="9202320"/>
            <a:ext cx="629460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11560320" y="9202320"/>
            <a:ext cx="103824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4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E5E8D97-0352-494D-A5ED-E4CEB57261B9}" type="slidenum">
              <a:rPr b="0" lang="en-US" sz="14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4fbfe"/>
            </a:gs>
            <a:gs pos="100000">
              <a:srgbClr val="bbe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06320" y="831960"/>
            <a:ext cx="9853560" cy="15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IE" sz="5600" spc="-1" strike="noStrike">
                <a:solidFill>
                  <a:srgbClr val="0d0d0d"/>
                </a:solidFill>
                <a:latin typeface="Tw Cen MT Condensed"/>
              </a:rPr>
              <a:t>                                    </a:t>
            </a:r>
            <a:r>
              <a:rPr b="0" lang="en-IE" sz="5600" spc="-1" strike="noStrike">
                <a:solidFill>
                  <a:srgbClr val="0d0d0d"/>
                </a:solidFill>
                <a:latin typeface="Tw Cen MT Condensed"/>
              </a:rPr>
              <a:t>RATES EXAMPLE:</a:t>
            </a:r>
            <a:endParaRPr b="0" lang="en-US" sz="56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8320" y="831960"/>
            <a:ext cx="10142640" cy="7696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IE" sz="3600" spc="-1" strike="noStrike" u="sng">
                <a:solidFill>
                  <a:srgbClr val="000000"/>
                </a:solidFill>
                <a:uFillTx/>
                <a:latin typeface="Tw Cen MT"/>
              </a:rPr>
              <a:t>Students Study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IE" sz="2400" spc="-1" strike="noStrike" u="sng">
                <a:solidFill>
                  <a:srgbClr val="000000"/>
                </a:solidFill>
                <a:uFillTx/>
                <a:latin typeface="Tw Cen MT"/>
              </a:rPr>
              <a:t>Group 1 Countries = €250 per month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w Cen MT"/>
              </a:rPr>
              <a:t>includes France and Austri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IE" sz="2400" spc="-1" strike="noStrike" u="sng">
                <a:solidFill>
                  <a:srgbClr val="000000"/>
                </a:solidFill>
                <a:uFillTx/>
                <a:latin typeface="Tw Cen MT"/>
              </a:rPr>
              <a:t>Group 2 Countries = €200 per month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w Cen MT"/>
              </a:rPr>
              <a:t>Includes Spain, Germany and Netherland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1712"/>
              </a:spcBef>
              <a:spcAft>
                <a:spcPts val="286"/>
              </a:spcAft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w Cen MT"/>
              </a:rPr>
              <a:t>e.g., of Student payment - 3 months in Franc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20" name="Kép 1" descr=""/>
          <p:cNvPicPr/>
          <p:nvPr/>
        </p:nvPicPr>
        <p:blipFill>
          <a:blip r:embed="rId1"/>
          <a:stretch/>
        </p:blipFill>
        <p:spPr>
          <a:xfrm>
            <a:off x="10914120" y="195120"/>
            <a:ext cx="1905120" cy="636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1" name=""/>
          <p:cNvGraphicFramePr/>
          <p:nvPr/>
        </p:nvGraphicFramePr>
        <p:xfrm>
          <a:off x="6789600" y="1996920"/>
          <a:ext cx="5524560" cy="4851720"/>
        </p:xfrm>
        <a:graphic>
          <a:graphicData uri="http://schemas.openxmlformats.org/drawingml/2006/table">
            <a:tbl>
              <a:tblPr/>
              <a:tblGrid>
                <a:gridCol w="3302280"/>
                <a:gridCol w="1041120"/>
                <a:gridCol w="1181160"/>
              </a:tblGrid>
              <a:tr h="614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4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0" rIns="11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4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Erasmus+ HE SM grant calculat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812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asic Monthly grant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0" rIns="11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€</a:t>
                      </a: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/month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0" rIns="11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                       </a:t>
                      </a: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50 €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812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op-up for traineeship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0" rIns="11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€</a:t>
                      </a: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/month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0" rIns="11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                          </a:t>
                      </a: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   €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224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op-up for disadvantaged background (SMS only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0" rIns="11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€</a:t>
                      </a: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/month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0" rIns="11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812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pecial needs suppor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0" rIns="11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€</a:t>
                      </a: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/mobilit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0" rIns="11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                          </a:t>
                      </a: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   €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224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art date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0" rIns="11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7/01/201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224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End dat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0" rIns="11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7/04/201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224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umber of interruption days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0" rIns="11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ays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0" rIns="11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812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otal monthly grant for SM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0" rIns="11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€</a:t>
                      </a: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/month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0" rIns="11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                       </a:t>
                      </a: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50 €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812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otal monthly grant for SMP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0" rIns="11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€</a:t>
                      </a: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/month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0" rIns="11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                          </a:t>
                      </a: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   €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224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otal granted day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0" rIns="11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ays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0" rIns="11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9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224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otal duration in month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0" rIns="11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onths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0" rIns="11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224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otal duration in remaining day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0" rIns="11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ays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0" rIns="11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812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otal grant (SMS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0" rIns="11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€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0" rIns="11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                       </a:t>
                      </a: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58 €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812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otal grant (SMP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0" rIns="11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€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0" rIns="11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                          </a:t>
                      </a: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   €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</a:tbl>
          </a:graphicData>
        </a:graphic>
      </p:graphicFrame>
      <p:pic>
        <p:nvPicPr>
          <p:cNvPr id="222" name="Kép 1" descr=""/>
          <p:cNvPicPr/>
          <p:nvPr/>
        </p:nvPicPr>
        <p:blipFill>
          <a:blip r:embed="rId2"/>
          <a:stretch/>
        </p:blipFill>
        <p:spPr>
          <a:xfrm>
            <a:off x="7961400" y="2025720"/>
            <a:ext cx="1724040" cy="576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ileen O'Connell</dc:creator>
  <dc:description/>
  <dc:language>en-US</dc:language>
  <cp:lastModifiedBy>Canning, Fiona</cp:lastModifiedBy>
  <cp:lastPrinted>2014-05-08T15:54:14Z</cp:lastPrinted>
  <dcterms:modified xsi:type="dcterms:W3CDTF">2014-12-05T12:34:40Z</dcterms:modified>
  <cp:revision>66</cp:revision>
  <dc:subject/>
  <dc:title>PowerPoint Presentation</dc:title>
</cp:coreProperties>
</file>